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8B2F-802E-4927-B22F-80C2EC5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6685-8522-415D-92AC-5E6BEB91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1F18-6196-444E-81B5-8A2DB840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2FBE-6BB5-42A9-A688-403D9439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42DB-AA86-4BBC-A1CD-77C01200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E8D-4722-44D1-A6B5-D45FEDF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D6D-5764-484D-B521-E253995B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72C-84B2-42F2-BCD5-7ABE19EE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B70-F5D4-4395-84BE-F91FB7D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E245-2E8F-46E2-A3C3-C1DEB69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B4E6-980F-49C2-A8BD-4A524157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B5D9-BF6B-4D06-9004-092814D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863-E470-4758-8E41-9AD2C91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F729-D7EF-4BC5-9074-5A79945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393-F7B6-4DFB-9E7E-B03E622A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6F8-9E1E-47F5-8D96-A6FDF77B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AB9-CB3C-4B33-A3B9-BCAF8CAC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BCEB-3BCD-407C-8699-8EFF2E9C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523F-91ED-42A2-A843-8C0665E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BEF1-3EC3-4683-ADBC-2CCEC4C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208D-7043-467C-81D3-5DA5FB9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174B-8803-486F-83CD-B411FED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4F0A-99B9-4724-AE64-DA73403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D8E0-74C9-4189-B277-02B0D09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7680-BA87-4615-A871-D29068F9C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E361-265E-485B-A804-DCB021D5A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ymbolic Approach to Literatur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ich Gilliland &amp; Eric Dun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edip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y was around before Sopho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ther (Freudian/Jungian inter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ro (hubr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5621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ymbols, patterns, &amp; arche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etype: basic motif, theme, or model from which others are der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on/in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s are the symbolic projections of a people’s hopes, values, fears, and aspirations.” –Wilfred L. Gu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162920" y="1066680"/>
            <a:ext cx="17524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ungian Archetyp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 Jung – worked with Fre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etyp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Jungian archetypes in litera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Chi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Her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M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Wise Old M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Trickster (Fox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1736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any symbolic images, strong communal beliefs, motif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plot patter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chetypal situations are explo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his piece relate to others (themes, plot elements, character archetype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3716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dvantages vs. Disadvantag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ght into huma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onscious author mo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s many seemingly abstract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n’t it be nice to be connec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too far 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ing the personal interpret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gnoring historical/ biographical pie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etypes sometimes differ across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 You Remember When…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Campbell – The Monomy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ck Finn – classic American adventure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urian Legends – significance of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 Langdon – symbolic approach to DaVinci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common plots/t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ore Examp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rix - Neo, Thomas A. Anderson, Morph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: The Extra -Terrestrial- ET is Chris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wshank Redemption - Bible, water, Andy is Chris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18728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Appl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d of the Flies: Perils of society without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lph/Conch: leadership, autho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mon: Christ-li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Jack: savage, unciviliz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iggy: physical weakness, mental streng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1668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Appl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Farm: Allegory for Russian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thout symbolism in mind, meaning is completely alter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ndmill – Russia’s five year plan/Germany’s attac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igs – loyalists to the communist pa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72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14:49Z</dcterms:created>
  <dc:creator>rgilliland</dc:creator>
  <dc:description/>
  <dc:language>en-US</dc:language>
  <cp:lastModifiedBy>rgilliland</cp:lastModifiedBy>
  <dcterms:modified xsi:type="dcterms:W3CDTF">2009-03-13T13:03:30Z</dcterms:modified>
  <cp:revision>8</cp:revision>
  <dc:subject/>
  <dc:title>Symbolic Approach to Literature</dc:title>
</cp:coreProperties>
</file>